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D0A-7C5F-431A-944F-8D808D7E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CA6-955C-4BAA-8796-6076CFBB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D49-0A16-4A9F-8D6B-68123798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242-F5CB-4A88-9289-D6358000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67B-BDFD-4384-BC7F-38D1F8ED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FD3-3182-4B53-9EF2-741372C0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DAA-3BE4-402E-A44F-9D3BE15A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75A-9484-4187-87C6-A7A43FAB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5FA-077D-4921-A541-E4C8CF38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3FE-348A-445A-BF56-BAA7788E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DB0-F90A-4C38-AF73-C66007FC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3F6-3FAE-499F-AA33-30C4127C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141446-9CA1-46D7-AC32-8E7C3ABC50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happened at the Homestead (Pennsylvania) steel mill during the summer of 1892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523880" y="0"/>
            <a:ext cx="612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827360" y="0"/>
            <a:ext cx="5640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762120" y="685800"/>
            <a:ext cx="7772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hods did the Amalgamated Association of Iron and Steel Workers (the union at Homestead) use to gain power at Carnegie Ste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Collective Barg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tri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Violence against Pinkertons and Scab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09480" y="609480"/>
            <a:ext cx="80773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Carnegie Steel (under the guidance of CEO Henry Clay Frick) respond to the union’s demand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“Lockout” of wor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Hired Pinkerton Detectives to re-open the pl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Hired non-union (“scab”) wor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Brought in Pennsylvania State Militia to guard the pla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id organized labor unions represent a threat to the power of big business owners (like the “Robber Barons”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nflicts between labor and management (like at Homestead)during the Gilded Age, did the government tend to support workers or own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you think the government sided with owners during the Gilded Ag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re there any similarities between the 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r conflicts of the Gilded Age and current event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33520" y="1066680"/>
            <a:ext cx="777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ho should have the most power in a workplac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those who own the company or those who do the work to make products (or provide a servic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wners/management or Lab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89172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03:57Z</dcterms:created>
  <dc:creator>Emily Dolci</dc:creator>
  <dc:description/>
  <dc:language>en-US</dc:language>
  <cp:lastModifiedBy>Dominic Lambek</cp:lastModifiedBy>
  <dcterms:modified xsi:type="dcterms:W3CDTF">2013-12-09T13:04:12Z</dcterms:modified>
  <cp:revision>9</cp:revision>
  <dc:subject/>
  <dc:title>Slide 1</dc:title>
</cp:coreProperties>
</file>